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4EC0-04E0-44B3-898C-C61604868A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8346-AF75-4456-BF27-FFF872F7D3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400-093C-46CC-9E7C-56F1D152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102-7F13-4876-A516-BAA53F3A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1D9-5472-40F3-9C78-681DEB78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DFA-B0BA-4DE9-A393-EA762E15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18D-E0FD-4601-A568-295B784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18A-283A-4F6F-BB26-4D3B41F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9F7-EED6-4757-9500-16F4968A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895-4765-4AA3-A851-9321C20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CF1-2954-48FB-B43D-0228AC45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0C0-E3E0-4146-AD79-D7FA091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1CD-4693-44EA-AD79-946D375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47C-28F9-4244-8851-D934F98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E54D-4B21-4501-B7F8-DB83C67C6EFE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knol.google.com/k/why-is-dokdo-a-korean-island-and-takeshima-a-fiction" TargetMode="External"/><Relationship Id="rId2" Type="http://schemas.openxmlformats.org/officeDocument/2006/relationships/hyperlink" Target="http://knol.google.com/k/why-is-dokdo-a-korean-island-and-takeshima-a-fictio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kdo-takeshima.com/wordpress/wp-content/images/dokdo-airsho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reanimated.cafe24.com/mt/archives/dokdo.jpg"/>
          <p:cNvPicPr/>
          <p:nvPr/>
        </p:nvPicPr>
        <p:blipFill>
          <a:blip r:embed="rId1"/>
          <a:stretch/>
        </p:blipFill>
        <p:spPr>
          <a:xfrm>
            <a:off x="2714760" y="200016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87280" y="42876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kdo belongs to Kore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 Black"/>
              </a:rPr>
              <a:t>독도는 우리땅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611280" y="692280"/>
            <a:ext cx="7848360" cy="83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Regular ferry service from Ulleungd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Over 900 Korean list as residenc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0ver 2000 Japanes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fact, only 2 permanent resid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0 South Korean police guard the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l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Picture 4" descr="http://cache.boston.com/universal/site_graphics/blogs/bigpicture/lian_02_25/l02_15664805.jpg"/>
          <p:cNvPicPr/>
          <p:nvPr/>
        </p:nvPicPr>
        <p:blipFill>
          <a:blip r:embed="rId1"/>
          <a:stretch/>
        </p:blipFill>
        <p:spPr>
          <a:xfrm>
            <a:off x="2786040" y="4143240"/>
            <a:ext cx="4943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85840" y="357120"/>
            <a:ext cx="7848360" cy="84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mate and Ecology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extremely small siz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harsh weath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barely habitab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rich fishing ground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possible reserves of natural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ses (methane hydrate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4" descr="http://knol.google.com/k/-/-/2zvfgrgyend5c/akjfa0/underwater-dokdo.jpg"/>
          <p:cNvPicPr/>
          <p:nvPr/>
        </p:nvPicPr>
        <p:blipFill>
          <a:blip r:embed="rId1"/>
          <a:stretch/>
        </p:blipFill>
        <p:spPr>
          <a:xfrm>
            <a:off x="5429160" y="4535640"/>
            <a:ext cx="33102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0920" y="765000"/>
            <a:ext cx="8569080" cy="85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of of Korean ownership of Dokd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*  Korean have inhabited Ulleungdo from prehistoric tim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 Korean style dolmens i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lleung-d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2" descr="http://knol.google.com/k/-/-/2zvfgrgyend5c/akjfa0/2.jpg"/>
          <p:cNvPicPr/>
          <p:nvPr/>
        </p:nvPicPr>
        <p:blipFill>
          <a:blip r:embed="rId1"/>
          <a:stretch/>
        </p:blipFill>
        <p:spPr>
          <a:xfrm>
            <a:off x="5072040" y="4143240"/>
            <a:ext cx="33861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85840" y="785880"/>
            <a:ext cx="784836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* Accoring to Samguk Sagi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Arial Black"/>
              </a:rPr>
              <a:t>삼국사기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) in</a:t>
            </a:r>
            <a:r>
              <a:rPr b="0" lang="ko-K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145 A.D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abu (a general of Shilla) conquered and annexed “Usan-guk” which referred to Ulleundo and dokdo, collectively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" descr="http://knol.google.com/k/-/-/2zvfgrgyend5c/akjfa0/samguk-sagi.jpg"/>
          <p:cNvPicPr/>
          <p:nvPr/>
        </p:nvPicPr>
        <p:blipFill>
          <a:blip r:embed="rId1"/>
          <a:stretch/>
        </p:blipFill>
        <p:spPr>
          <a:xfrm>
            <a:off x="4786200" y="3678120"/>
            <a:ext cx="39355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500040" y="836640"/>
            <a:ext cx="78170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* Old Korean map prove tha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kdo belongs to Kore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rte de la Coree of 1846 by Dae-Geun Ki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deong Yeojido of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862 by Jeong-ho Ki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5" descr="http://knol.google.com/k/-/-/2zvfgrgyend5c/akjfa0/daedongusan-2.jpg"/>
          <p:cNvPicPr/>
          <p:nvPr/>
        </p:nvPicPr>
        <p:blipFill>
          <a:blip r:embed="rId1"/>
          <a:stretch/>
        </p:blipFill>
        <p:spPr>
          <a:xfrm>
            <a:off x="5500800" y="3357720"/>
            <a:ext cx="3419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428760" y="357120"/>
            <a:ext cx="78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*Even old Japanese map (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century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mit that Dokdo originally belonged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 Korea before annexation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2" descr="http://knol.google.com/k/-/-/2zvfgrgyend5c/akjfa0/b34-1.jpg"/>
          <p:cNvPicPr/>
          <p:nvPr/>
        </p:nvPicPr>
        <p:blipFill>
          <a:blip r:embed="rId1"/>
          <a:stretch/>
        </p:blipFill>
        <p:spPr>
          <a:xfrm>
            <a:off x="6072120" y="2143080"/>
            <a:ext cx="2832120" cy="4071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knol.google.com/k/-/-/2zvfgrgyend5c/akjfa0/1882.jpg"/>
          <p:cNvPicPr/>
          <p:nvPr/>
        </p:nvPicPr>
        <p:blipFill>
          <a:blip r:embed="rId2"/>
          <a:stretch/>
        </p:blipFill>
        <p:spPr>
          <a:xfrm>
            <a:off x="642960" y="2143080"/>
            <a:ext cx="485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1187280" y="83664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1836, the Japanese government declares that Dokdo is a forbidden foreign territo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1877, the Japanese government disowns Dokdo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1187280" y="83664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kdo was administered by the Korean government until Japan stripped sovereignty of Korea in 19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1143000" y="357120"/>
            <a:ext cx="71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pan’s inalterable position on the sovereignty of Takeshim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Ministry of Foreign Affairs of Japa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643040" y="2228760"/>
            <a:ext cx="62438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67232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37072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erritorial Dispute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between Korea and Japan</a:t>
            </a: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ikaella Hah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ep 7 201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428760" y="836640"/>
            <a:ext cx="8501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kdo  or Takeshima 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apan increased efforts to call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entions to the disputes itself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lared “Takeshima Day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214960" y="3643200"/>
            <a:ext cx="32306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1187280" y="83664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orea have staged numerous protests against Japan with extreme demonstra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Picture 2" descr="http://cache.boston.com/universal/site_graphics/blogs/bigpicture/lian_02_25/l07_15653063-1.jpg"/>
          <p:cNvPicPr/>
          <p:nvPr/>
        </p:nvPicPr>
        <p:blipFill>
          <a:blip r:embed="rId1"/>
          <a:stretch/>
        </p:blipFill>
        <p:spPr>
          <a:xfrm>
            <a:off x="4500720" y="3857760"/>
            <a:ext cx="4397040" cy="2762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cache.boston.com/universal/site_graphics/blogs/bigpicture/lian_02_25/l05_15733435-1.jpg"/>
          <p:cNvPicPr/>
          <p:nvPr/>
        </p:nvPicPr>
        <p:blipFill>
          <a:blip r:embed="rId2"/>
          <a:stretch/>
        </p:blipFill>
        <p:spPr>
          <a:xfrm>
            <a:off x="214200" y="3857760"/>
            <a:ext cx="44290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285840" y="836640"/>
            <a:ext cx="885816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ister island of Ulleungd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 see Dokdo from Ulleungd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erty right by posse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. seeing it (possesion based on discovery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. going there (on occupancy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. catching fish (on use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" name="Picture 4" descr="http://knol.google.com/k/-/-/2zvfgrgyend5c/akjfa0/dokdo-from-ulleungdo.jpg"/>
          <p:cNvPicPr/>
          <p:nvPr/>
        </p:nvPicPr>
        <p:blipFill>
          <a:blip r:embed="rId1"/>
          <a:stretch/>
        </p:blipFill>
        <p:spPr>
          <a:xfrm>
            <a:off x="5197320" y="4365720"/>
            <a:ext cx="37767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187280" y="83664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Dokdo Island dispute continues to this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 Japan: “inalterable position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orea: currently administer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kd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rth Korea support South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orea’s clai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428760" y="836640"/>
            <a:ext cx="871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though claimed by both Korea and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pan, Dokdo is currently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minstered by the Republic of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ore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Picture 2" descr="http://cfs8.tistory.com/image/25/tistory/2008/08/30/16/24/48b8f5bf95e18"/>
          <p:cNvPicPr/>
          <p:nvPr/>
        </p:nvPicPr>
        <p:blipFill>
          <a:blip r:embed="rId1"/>
          <a:stretch/>
        </p:blipFill>
        <p:spPr>
          <a:xfrm>
            <a:off x="3857760" y="3000240"/>
            <a:ext cx="47386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www.make-your-own-invitations.com/image-files/thank-you-pink-brown.gif"/>
          <p:cNvPicPr/>
          <p:nvPr/>
        </p:nvPicPr>
        <p:blipFill>
          <a:blip r:embed="rId1"/>
          <a:stretch/>
        </p:blipFill>
        <p:spPr>
          <a:xfrm>
            <a:off x="6072120" y="3943440"/>
            <a:ext cx="2857680" cy="291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cfs12.blog.daum.net/image/12/blog/2008/07/27/22/40/488c7ad4d9a21"/>
          <p:cNvPicPr/>
          <p:nvPr/>
        </p:nvPicPr>
        <p:blipFill>
          <a:blip r:embed="rId2"/>
          <a:stretch/>
        </p:blipFill>
        <p:spPr>
          <a:xfrm>
            <a:off x="1357200" y="500040"/>
            <a:ext cx="5578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1143000" y="928800"/>
            <a:ext cx="712944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Black"/>
                <a:hlinkClick r:id="rId1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Black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http://knol.google.com/k/why-is-dokdo-a-korean-island-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nd-takeshima-a-fiction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2"/>
          <p:cNvSpPr/>
          <p:nvPr/>
        </p:nvSpPr>
        <p:spPr>
          <a:xfrm>
            <a:off x="1071720" y="2786040"/>
            <a:ext cx="58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knol.google.com/k/dokdo-island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3"/>
          <p:cNvSpPr/>
          <p:nvPr/>
        </p:nvSpPr>
        <p:spPr>
          <a:xfrm>
            <a:off x="1143000" y="400068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dokdo-takeshima.com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4"/>
          <p:cNvSpPr/>
          <p:nvPr/>
        </p:nvSpPr>
        <p:spPr>
          <a:xfrm>
            <a:off x="1214280" y="50007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boston.com/bigpicture/2009/02/dokdo_or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keshima.ht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5"/>
          <p:cNvSpPr/>
          <p:nvPr/>
        </p:nvSpPr>
        <p:spPr>
          <a:xfrm>
            <a:off x="1143000" y="33577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SimSun"/>
              </a:rPr>
              <a:t>http://www.mofa.go.jp/region/asia-aci/takeshima/index.ht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500040" y="8571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Dokdo: </a:t>
            </a:r>
            <a:r>
              <a:rPr b="0" lang="ko-KR" sz="2400" spc="-1" strike="noStrike">
                <a:solidFill>
                  <a:srgbClr val="000000"/>
                </a:solidFill>
                <a:latin typeface="Arial Black"/>
              </a:rPr>
              <a:t>독도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 Korean, means “rock island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sister land of Ulleungd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15 km from mainland Kor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Liancourt Rocks:  (the name of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ench whaling ship)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Takeshima: by Japan “bamboo island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50 km from  Japan prop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4" descr="http://2.bp.blogspot.com/-tNbB24TjFDc/TWhzbwxM__I/AAAAAAAAAIc/u-56oOawY0I/s1600/dokdo.gif"/>
          <p:cNvPicPr/>
          <p:nvPr/>
        </p:nvPicPr>
        <p:blipFill>
          <a:blip r:embed="rId1"/>
          <a:stretch/>
        </p:blipFill>
        <p:spPr>
          <a:xfrm>
            <a:off x="5794200" y="4003560"/>
            <a:ext cx="3241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1258920" y="836640"/>
            <a:ext cx="7129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Dokdo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composed mainly of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 islets (150 m apart) and 100 small roc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tal area: 187,45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stern islet (seodo): 88,64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stern islet (dongdo): 73,3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Picture 2" descr="dokdo liancourt rocks from above 독도 たけしま 獨島 竹島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000680"/>
            <a:ext cx="4573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1187280" y="189000"/>
            <a:ext cx="7129800" cy="9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nearest Korea land mass: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orea’s Ulleung-do Islan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7 k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sible from Ulleung-d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nearest Japan land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ki isl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57 k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ver visib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2" descr="http://www.dokdo-takeshima.com/wordpress/wp-content/images/dokdo-distances.gif"/>
          <p:cNvPicPr/>
          <p:nvPr/>
        </p:nvPicPr>
        <p:blipFill>
          <a:blip r:embed="rId1"/>
          <a:stretch/>
        </p:blipFill>
        <p:spPr>
          <a:xfrm>
            <a:off x="4140360" y="4005360"/>
            <a:ext cx="44053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1187280" y="83664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3143160" y="285840"/>
            <a:ext cx="2114640" cy="105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2500200" y="1571760"/>
            <a:ext cx="421488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1187280" y="836640"/>
            <a:ext cx="7129800" cy="9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dispute that has been going on for the past 6 decad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tarted in 1950s when Korea laid claim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o the isl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nsified in June 2011 when KAL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ight over the disputed territor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 Japanese lawmaker announced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cision to visit Ullengd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th Korea refused to allow th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diplomatic issues between the two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1187280" y="836640"/>
            <a:ext cx="71298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day, South Korea classfied Dokd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lleung county, North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yeonsan Provin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pan classifi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kinshima, Oki district,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imane Prefec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1187280" y="836640"/>
            <a:ext cx="7129800" cy="65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der the control of South Korea since August 15, 1948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orea-based U.S corpor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nsferred Dokdo to Republic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 Kore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6" descr="http://knol.google.com/k/-/-/2zvfgrgyend5c/zzclsu/diaoyutai-island-1%20%281%29.jpg"/>
          <p:cNvPicPr/>
          <p:nvPr/>
        </p:nvPicPr>
        <p:blipFill>
          <a:blip r:embed="rId1"/>
          <a:stretch/>
        </p:blipFill>
        <p:spPr>
          <a:xfrm>
            <a:off x="4929120" y="3429000"/>
            <a:ext cx="38149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6:55:14Z</dcterms:created>
  <dc:creator>sjhahn</dc:creator>
  <dc:description/>
  <dc:language>en-US</dc:language>
  <cp:lastModifiedBy>hahn Jione</cp:lastModifiedBy>
  <dcterms:modified xsi:type="dcterms:W3CDTF">2011-09-07T03:27:13Z</dcterms:modified>
  <cp:revision>206</cp:revision>
  <dc:subject/>
  <dc:title>슬라이드 1</dc:title>
</cp:coreProperties>
</file>